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10546-40F2-495D-97BF-328B7AB4D3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what countries current members of the International Club have vis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B9B4-0199-404F-8775-F9DBA6869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8EEE-F318-408F-BFF6-26148DF42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2E6F-C3FA-4159-A273-5BC2921C4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BCC8-1F9E-4417-934C-4E8FA7C5B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6A9AE-4A79-4333-82F8-352B69957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43A69-7D10-4510-9FB8-777290286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8D15E-90A4-46A8-A5F2-50808A3B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E33D3-249F-4FE5-859D-B373CABC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3F49F-268D-4D4A-A198-F05231398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6D494-8BAB-4CAA-AF99-294C4A1CA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261C6-5D78-426F-90BC-3428C126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094B-2B32-4949-B7D5-E3F3530FC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A45FD-A949-41FF-B1DE-7F01CFF2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0BA9E-9AEE-4AD2-9CEC-BD85D020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64B17-5D24-4E6C-BAC2-6769A9E08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6BE5A-06D5-4FE9-A346-8D5B39E91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20472-BCAF-4486-87A8-5CB379827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B197-43A9-4C29-9D85-88B9657D1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7A91-131E-4DB6-A614-A2577B52A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49BF-61B3-43DB-B9DE-3354252FB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0477-96BD-4E06-868A-CE6D51766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22C7-FB0D-402C-B5F1-18D61932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65FB-858B-4415-B19E-E9DE3B64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83C4-42C0-4BDA-A3B0-D81FC9E9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882BC-161D-4229-B79B-43DFB5BB177F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074C3-2E6B-4341-9BE3-F91806510AD9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828440" y="2031840"/>
            <a:ext cx="6248520" cy="68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ecome a Voluntee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90360" y="3200040"/>
            <a:ext cx="73911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rea team leade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ost coordinato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strict representativ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8480" y="266652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ecome an Exchange Studen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828440" y="1676520"/>
            <a:ext cx="609588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ecome a Host Famil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600200" y="3581280"/>
            <a:ext cx="6973920" cy="260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hare your home for a yea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hare a friendship for a lifetim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95280" y="1600200"/>
            <a:ext cx="655344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ountries you can visit…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52120" y="3047760"/>
            <a:ext cx="259092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ustrali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ustri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nmar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nglan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ranc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German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8320" y="3048120"/>
            <a:ext cx="2720880" cy="337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relan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ta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ew Zealan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Japa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cotlan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witzerlan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09320" y="1828800"/>
            <a:ext cx="5257800" cy="100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enefi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676160" y="2819160"/>
            <a:ext cx="6723000" cy="360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udying abroad will enable you to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xperience a different cultur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erfect a second languag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ke lifelong international friend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velop strong interpersonal skill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uild self-confidenc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560" y="2286000"/>
            <a:ext cx="8537400" cy="7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xplore the opportunities today!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828440" y="3733920"/>
            <a:ext cx="49086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ll for more informa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800-555-212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04760" y="2285640"/>
            <a:ext cx="556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Global Studen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ww.GlobalStudents.co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1T18:21:00Z</dcterms:created>
  <dc:creator>Connie Morrison</dc:creator>
  <dc:description/>
  <dc:language>en-US</dc:language>
  <cp:lastModifiedBy>Julie Hotchkiss</cp:lastModifiedBy>
  <dcterms:modified xsi:type="dcterms:W3CDTF">2004-09-24T15:25:17Z</dcterms:modified>
  <cp:revision>35</cp:revision>
  <dc:subject/>
  <dc:title>Participate in the  Global Student Exchange Program</dc:title>
</cp:coreProperties>
</file>